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620-DD99-4656-A80B-FD336E45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0ED-C037-4FF4-9D6A-B519EF70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B1E-402A-4645-93A4-2740FDB7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5F9-ADB7-44BE-A7F3-CDB3BAD9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621-EC39-4E66-A123-6C687619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525-B196-4D7D-BA42-DE83B2F9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6BA-BF2B-4C98-891B-E4D6CB31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5ED-3B05-4EB3-8CED-16B640A3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507-42DB-495A-8564-21287FEB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CAE-485C-454D-85C8-9FC724C6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577-A747-4648-BD8A-66318B5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6ED-3288-4AEC-8E73-2E7B7062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E46-A891-4491-AF54-EF2D42D8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Impact"/>
              </a:rPr>
              <a:t>Differences in approaches  </a:t>
            </a:r>
            <a:r>
              <a:rPr b="1" lang="en-US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90720"/>
            <a:ext cx="91440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Homelessness 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ersons in places not meant for  habitation (street, 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ersons in shelters (dormitories, room, apart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3)  persons staying temporarily by friends and rel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risoners, persons in social or medical institutions if due to leave within 3 months with no house of their 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tenants of cheap boarding ho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ran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1) + (2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ustral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1) + (2) + (3)     +  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wede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1) + (2) + (3) +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Impact"/>
              </a:rPr>
              <a:t>Differences in approaches </a:t>
            </a:r>
            <a:r>
              <a:rPr b="1" lang="fr-FR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91440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 Black"/>
              </a:rPr>
              <a:t>Collection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France     : sampling survey of homeless pers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Sweden   : exhaustive collection of individual data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from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institutions in contact with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homeless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Australia : combination of census data and 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exhaustive data collection from she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Impact"/>
              </a:rPr>
              <a:t>Differences in approaches </a:t>
            </a:r>
            <a:r>
              <a:rPr b="1" lang="fr-FR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 Black"/>
              </a:rPr>
              <a:t>Traitment of double-counts generated by methodolo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France     : calculation of weightings with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weights sharing method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(Lavallee, Ardi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Sweden   : elimination by using a personal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identification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Australia : not concerned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(collection a particular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Impact"/>
              </a:rPr>
              <a:t>Differences in approaches </a:t>
            </a:r>
            <a:r>
              <a:rPr b="1" lang="fr-FR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91440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 Black"/>
              </a:rPr>
              <a:t>Number of variab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France     : around 600 variables including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responses to opened ques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Sweden   : around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Australia : around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Impact"/>
              </a:rPr>
              <a:t>Differences in approaches </a:t>
            </a:r>
            <a:r>
              <a:rPr b="1" lang="fr-FR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91440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 Black"/>
              </a:rPr>
              <a:t>Coverage extens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France     : low, representative only at national level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and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for Paris urba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Sweden   : high, locally represen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Australia : high, locally represen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Impact"/>
              </a:rPr>
              <a:t>Same institutional context </a:t>
            </a:r>
            <a:r>
              <a:rPr b="1" lang="fr-FR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9144000" cy="70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 Black"/>
              </a:rPr>
              <a:t>Statistical work easy due to the unification of institutions in contact with homeless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France     : 80% of caritative organisations belong to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the same federation (FN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Sweden   : unification through public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Australia : accommodation services united and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having a data collection system (SA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Impact"/>
              </a:rPr>
              <a:t>Same institutional context </a:t>
            </a:r>
            <a:r>
              <a:rPr b="1" lang="fr-FR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8080"/>
            <a:ext cx="9144000" cy="56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 Black"/>
              </a:rPr>
              <a:t>Statistical work easy due to the unification of institutions in contact with homeless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- it is more simple to register facilities </a:t>
            </a: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for the  homeless </a:t>
            </a:r>
            <a:r>
              <a:rPr b="1" lang="fr-FR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- definition matters are less complexe </a:t>
            </a: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because  there is a collective agreement </a:t>
            </a: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 Black"/>
              </a:rPr>
              <a:t>prior to the statistical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Impact"/>
              </a:rPr>
              <a:t>Same limitations </a:t>
            </a:r>
            <a:r>
              <a:rPr b="1" lang="fr-FR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8080"/>
            <a:ext cx="9144000" cy="60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- seasonality not mea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- in France and Sweden : coverage not per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- in Sweden, homeless people not known by social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institutions are not counted (see people staying by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friends and relat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- in France, rough-sleepers who never use hostels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or soup-kitchen are not surve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33cc"/>
                </a:solidFill>
                <a:latin typeface="Impact"/>
              </a:rPr>
              <a:t>Other systems  </a:t>
            </a:r>
            <a:r>
              <a:rPr b="1" lang="fr-FR" sz="1800" spc="-1" strike="noStrike">
                <a:solidFill>
                  <a:srgbClr val="3333cc"/>
                </a:solidFill>
                <a:latin typeface="Impact"/>
              </a:rPr>
              <a:t>I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146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95160"/>
            <a:ext cx="91440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 Black"/>
              </a:rPr>
              <a:t>Existence of other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 Black"/>
              </a:rPr>
              <a:t>collec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- systems for recording arrivals and departures at   accommodation centres (Denmark, The Netherla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collections of aggregate data gathered from support services for the homeless (Sp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  <a:ea typeface="Arial"/>
              </a:rPr>
              <a:t>But limited definition of homeles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9T13:55:36Z</dcterms:created>
  <dc:creator>Cécile Brousse DS8G51</dc:creator>
  <dc:description/>
  <dc:language>en-US</dc:language>
  <cp:lastModifiedBy> </cp:lastModifiedBy>
  <dcterms:modified xsi:type="dcterms:W3CDTF">2004-12-06T12:52:32Z</dcterms:modified>
  <cp:revision>119</cp:revision>
  <dc:subject/>
  <dc:title>Nombre de questionnaires </dc:title>
</cp:coreProperties>
</file>