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70C2-65D4-453D-AAA5-E65D8B998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7960" y="4287240"/>
            <a:ext cx="781056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5685-0962-491A-B2AD-BB5B77DC3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7960" y="428724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28724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9FFE-4AB7-4002-BE89-6D8134586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8560" y="227628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227628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77960" y="428724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8560" y="428724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428724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FC01-F2F7-48EB-92DC-3EF98AD56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3840" y="988560"/>
            <a:ext cx="78325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77960" y="428724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D61C-E498-44D5-9D06-CF4F61237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0080" y="428724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287240"/>
            <a:ext cx="781056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77960" y="4287240"/>
            <a:ext cx="781056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7960" y="428724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0080" y="428724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18560" y="227628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59520" y="227628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77960" y="428724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18560" y="428724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59520" y="4287240"/>
            <a:ext cx="2514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81DE-31D0-4940-B6E0-14C4971F2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3DF9-90D8-45C0-9F87-9E9D8E6E5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1269-DAD3-4E99-AC2F-4EA0822C2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3840" y="988560"/>
            <a:ext cx="78325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74DF-8A93-4597-BB90-3264911A8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77960" y="428724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E58A-1DDA-4593-9361-F46876AF1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28724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474E-BDF9-486D-8926-6AFD2CD17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276280"/>
            <a:ext cx="38113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7960" y="4287240"/>
            <a:ext cx="781056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2F55-67CE-4B87-AB9B-407B34B06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ca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7160" indent="-4971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1" marL="1080720" indent="-416160">
              <a:spcBef>
                <a:spcPts val="799"/>
              </a:spcBef>
              <a:buClr>
                <a:srgbClr val="0028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2" marL="1579320" indent="-331920">
              <a:spcBef>
                <a:spcPts val="799"/>
              </a:spcBef>
              <a:buClr>
                <a:srgbClr val="0028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3" marL="2089080" indent="-342360">
              <a:spcBef>
                <a:spcPts val="799"/>
              </a:spcBef>
              <a:buClr>
                <a:srgbClr val="0028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4" marL="2587680" indent="-331920">
              <a:spcBef>
                <a:spcPts val="799"/>
              </a:spcBef>
              <a:buClr>
                <a:srgbClr val="0028a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5" marL="2587680" indent="-331920">
              <a:spcBef>
                <a:spcPts val="799"/>
              </a:spcBef>
              <a:buClr>
                <a:srgbClr val="0028a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6" marL="2587680" indent="-331920">
              <a:spcBef>
                <a:spcPts val="799"/>
              </a:spcBef>
              <a:buClr>
                <a:srgbClr val="0028a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362280"/>
            <a:ext cx="23558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28a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D351-75FA-49E5-9BC2-D1C651353A43}" type="slidenum">
              <a:rPr b="1" lang="en-US" sz="1400" spc="-1" strike="noStrike">
                <a:solidFill>
                  <a:srgbClr val="0028a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72280" y="6316560"/>
            <a:ext cx="2533680" cy="0"/>
          </a:xfrm>
          <a:prstGeom prst="line">
            <a:avLst/>
          </a:prstGeom>
          <a:ln w="28440">
            <a:solidFill>
              <a:srgbClr val="002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8a1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7796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600" y="12600"/>
            <a:ext cx="9191160" cy="743040"/>
            <a:chOff x="12600" y="12600"/>
            <a:chExt cx="9191160" cy="743040"/>
          </a:xfrm>
        </p:grpSpPr>
        <p:sp>
          <p:nvSpPr>
            <p:cNvPr id="6" name=""/>
            <p:cNvSpPr/>
            <p:nvPr/>
          </p:nvSpPr>
          <p:spPr>
            <a:xfrm flipH="1">
              <a:off x="12600" y="336600"/>
              <a:ext cx="743040" cy="237960"/>
            </a:xfrm>
            <a:prstGeom prst="line">
              <a:avLst/>
            </a:prstGeom>
            <a:ln w="38160">
              <a:solidFill>
                <a:srgbClr val="ff9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8a1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8584920" y="12600"/>
              <a:ext cx="618840" cy="743040"/>
            </a:xfrm>
            <a:prstGeom prst="line">
              <a:avLst/>
            </a:prstGeom>
            <a:ln w="38160">
              <a:solidFill>
                <a:srgbClr val="ff9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8a1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6560" y="336600"/>
              <a:ext cx="7858080" cy="409320"/>
            </a:xfrm>
            <a:prstGeom prst="line">
              <a:avLst/>
            </a:prstGeom>
            <a:ln w="38160">
              <a:solidFill>
                <a:srgbClr val="ff9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28a1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5246640" y="133200"/>
            <a:ext cx="34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9cff"/>
                </a:solidFill>
                <a:latin typeface="Arial Narrow"/>
              </a:rPr>
              <a:t>Australian Institute of Health and Welfare</a:t>
            </a:r>
            <a:endParaRPr b="0" lang="en-US" sz="16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146640"/>
            <a:chOff x="0" y="0"/>
            <a:chExt cx="9144000" cy="614664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8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5008680"/>
              <a:ext cx="9144000" cy="113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3160" y="820440"/>
            <a:ext cx="6084720" cy="270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f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7fc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3000" y="5492880"/>
            <a:ext cx="1400040" cy="1187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2" marL="914400" indent="426960" algn="ctr">
              <a:spcBef>
                <a:spcPts val="700"/>
              </a:spcBef>
              <a:buClr>
                <a:srgbClr val="0028a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lvl="3" marL="1371600" indent="506520" algn="ctr">
              <a:spcBef>
                <a:spcPts val="601"/>
              </a:spcBef>
              <a:buClr>
                <a:srgbClr val="0028a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a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  <a:p>
            <a:pPr lvl="4" marL="1828800" indent="596880" algn="ctr">
              <a:spcBef>
                <a:spcPts val="601"/>
              </a:spcBef>
              <a:buClr>
                <a:srgbClr val="0028a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a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  <a:p>
            <a:pPr lvl="5" marL="1828800" indent="596880">
              <a:spcBef>
                <a:spcPts val="601"/>
              </a:spcBef>
              <a:buClr>
                <a:srgbClr val="0028a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a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  <a:p>
            <a:pPr lvl="6" marL="1828800" indent="596880">
              <a:spcBef>
                <a:spcPts val="601"/>
              </a:spcBef>
              <a:buClr>
                <a:srgbClr val="0028a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a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63920" y="1396800"/>
            <a:ext cx="6084720" cy="270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fcff"/>
                </a:solidFill>
                <a:latin typeface="Arial"/>
              </a:rPr>
              <a:t>Alternative Collection Strategies</a:t>
            </a:r>
            <a:r>
              <a:rPr b="1" lang="en-US" sz="4000" spc="-1" strike="noStrike">
                <a:solidFill>
                  <a:srgbClr val="f7fc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7f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18920" y="3886200"/>
            <a:ext cx="6093000" cy="138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in Griff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ca1"/>
                </a:solidFill>
                <a:latin typeface="Arial"/>
              </a:rPr>
              <a:t>Collection Methods to Measure Poverty</a:t>
            </a: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Censuses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Surveys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Administrative Data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7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Collected as a by-product of service delivery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7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Can directly measure impact of policies or programs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C14E-C7A2-4C90-B149-138523795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ca1"/>
                </a:solidFill>
                <a:latin typeface="Arial"/>
              </a:rPr>
              <a:t>Examples of use of this method</a:t>
            </a: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Used in many countries to report on health systems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Less common but also used to report: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4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a1"/>
                </a:solidFill>
                <a:latin typeface="Arial"/>
              </a:rPr>
              <a:t>Aged care </a:t>
            </a:r>
            <a:endParaRPr b="0" lang="en-US" sz="20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4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a1"/>
                </a:solidFill>
                <a:latin typeface="Arial"/>
              </a:rPr>
              <a:t>Disability</a:t>
            </a:r>
            <a:endParaRPr b="0" lang="en-US" sz="20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4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a1"/>
                </a:solidFill>
                <a:latin typeface="Arial"/>
              </a:rPr>
              <a:t>Children’s services</a:t>
            </a:r>
            <a:endParaRPr b="0" lang="en-US" sz="20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4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a1"/>
                </a:solidFill>
                <a:latin typeface="Arial"/>
              </a:rPr>
              <a:t>Public and community housing</a:t>
            </a:r>
            <a:endParaRPr b="0" lang="en-US" sz="20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4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a1"/>
                </a:solidFill>
                <a:latin typeface="Arial"/>
              </a:rPr>
              <a:t>Homelessness</a:t>
            </a:r>
            <a:endParaRPr b="0" lang="en-US" sz="20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4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a1"/>
                </a:solidFill>
                <a:latin typeface="Arial"/>
              </a:rPr>
              <a:t>Alcohol and drug programs</a:t>
            </a:r>
            <a:endParaRPr b="0" lang="en-US" sz="20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4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8a1"/>
                </a:solidFill>
                <a:latin typeface="Arial"/>
              </a:rPr>
              <a:t>Family support</a:t>
            </a:r>
            <a:endParaRPr b="0" lang="en-US" sz="20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6966-283D-4EE3-826F-B4C26C704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ca1"/>
                </a:solidFill>
                <a:latin typeface="Arial"/>
              </a:rPr>
              <a:t>What can be measured?</a:t>
            </a: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2120" indent="-49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Inputs (labour force and funding/costs)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Who is using the the service?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Where did they come from?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Why are they using them?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What service are they receiving?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What are they not receiving?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What are their outcomes?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Is the service being provided to everyone who should receive it?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49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AE01-A397-4798-BF26-34E155CFD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ca1"/>
                </a:solidFill>
                <a:latin typeface="Arial"/>
              </a:rPr>
              <a:t>Types of analyses possible</a:t>
            </a: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Cross sectional within programs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Longitudinal within programs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7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Requires a client identifier 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Comparisons between programs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Longitudinal across programs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lvl="1" marL="1162080" indent="-447840">
              <a:lnSpc>
                <a:spcPct val="90000"/>
              </a:lnSpc>
              <a:spcBef>
                <a:spcPts val="799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8a1"/>
                </a:solidFill>
                <a:latin typeface="Arial"/>
              </a:rPr>
              <a:t>Requires a common client identifier across programs</a:t>
            </a: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marL="53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  <a:p>
            <a:pPr marL="53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88F8-8F7F-4643-977C-6584C0EEDE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ca1"/>
                </a:solidFill>
                <a:latin typeface="Arial"/>
              </a:rPr>
              <a:t>Essential criteria for this approach </a:t>
            </a: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A service delivery infrastructure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Support of the program/policy funders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Clearly articulated collection ethics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Common data definitions and guides for use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Support of the service providers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A collection and reporting agency (preferably independent)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Involvement from the beginning 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59F4-B219-46E8-92C6-4A8EC563D8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ca1"/>
                </a:solidFill>
                <a:latin typeface="Arial"/>
              </a:rPr>
              <a:t>Advantages of this approach</a:t>
            </a: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4160" indent="-524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Direct form of measurement of the impact of policies and programs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24160" indent="-524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Relatively inexpensive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24160" indent="-524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Compliance is high if funding is linked to data collection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24160" indent="-524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Service providers (and their auspices/peaks) have access to data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24160" indent="-524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Credible longitudinal data over long periods of time 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7CD2-FA10-4698-8479-9939F5DC3A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ca1"/>
                </a:solidFill>
                <a:latin typeface="Arial"/>
              </a:rPr>
              <a:t>Disadvantages of this approach</a:t>
            </a: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2560" indent="-502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Difficult to implement where program delivery is decentralised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02560" indent="-502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Big brother concerns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marL="502560" indent="-502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Less control over quality of data collected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lvl="1" marL="1092240" indent="-420840">
              <a:lnSpc>
                <a:spcPct val="90000"/>
              </a:lnSpc>
              <a:spcBef>
                <a:spcPts val="601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a1"/>
                </a:solidFill>
                <a:latin typeface="Arial"/>
              </a:rPr>
              <a:t>Service providers responsible for collection</a:t>
            </a: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  <a:p>
            <a:pPr lvl="1" marL="1092240" indent="-420840">
              <a:lnSpc>
                <a:spcPct val="90000"/>
              </a:lnSpc>
              <a:spcBef>
                <a:spcPts val="601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a1"/>
                </a:solidFill>
                <a:latin typeface="Arial"/>
              </a:rPr>
              <a:t>Undercoverage of clients of services</a:t>
            </a: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  <a:p>
            <a:pPr lvl="1" marL="1092240" indent="-420840">
              <a:lnSpc>
                <a:spcPct val="90000"/>
              </a:lnSpc>
              <a:spcBef>
                <a:spcPts val="601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a1"/>
                </a:solidFill>
                <a:latin typeface="Arial"/>
              </a:rPr>
              <a:t>Clients and service providers may refuse to participate</a:t>
            </a: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  <a:p>
            <a:pPr lvl="1" marL="1092240" indent="-420840">
              <a:lnSpc>
                <a:spcPct val="90000"/>
              </a:lnSpc>
              <a:spcBef>
                <a:spcPts val="601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8a1"/>
                </a:solidFill>
                <a:latin typeface="Arial"/>
              </a:rPr>
              <a:t>Return of questionnaires dependent on service providers</a:t>
            </a: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  <a:p>
            <a:pPr lvl="1" marL="109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  <a:p>
            <a:pPr lvl="1" marL="1092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7562-16A1-4D4D-AC4E-FF9BEA3783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3840" y="988560"/>
            <a:ext cx="783252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ca1"/>
                </a:solidFill>
                <a:latin typeface="Arial"/>
              </a:rPr>
              <a:t>Examples of the effectiveness of this approach</a:t>
            </a:r>
            <a:endParaRPr b="0" lang="en-US" sz="4400" spc="-1" strike="noStrike">
              <a:solidFill>
                <a:srgbClr val="002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7960" y="2276280"/>
            <a:ext cx="78105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4160" indent="-524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Major program response to Homelessness in Australia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lvl="1" marL="1138680" indent="-438840">
              <a:lnSpc>
                <a:spcPct val="90000"/>
              </a:lnSpc>
              <a:spcBef>
                <a:spcPts val="700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25% increase in funding since data collection introduced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lvl="1" marL="1138680" indent="-438840">
              <a:lnSpc>
                <a:spcPct val="90000"/>
              </a:lnSpc>
              <a:spcBef>
                <a:spcPts val="700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More funds planned to cater for turn aways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lvl="1" marL="1138680" indent="-438840">
              <a:lnSpc>
                <a:spcPct val="90000"/>
              </a:lnSpc>
              <a:spcBef>
                <a:spcPts val="700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75% of clients of the service don’t return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lvl="1" marL="1138680" indent="-438840">
              <a:lnSpc>
                <a:spcPct val="90000"/>
              </a:lnSpc>
              <a:spcBef>
                <a:spcPts val="700"/>
              </a:spcBef>
              <a:buClr>
                <a:srgbClr val="0028a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8a1"/>
                </a:solidFill>
                <a:latin typeface="Arial"/>
              </a:rPr>
              <a:t>The longer a client is supported, more chance of a successful outcome</a:t>
            </a: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  <a:p>
            <a:pPr lvl="1" marL="113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8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DBBA-0992-4870-B1FC-7A4552B004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00:13:49Z</dcterms:created>
  <dc:creator>Debbie Phillips</dc:creator>
  <dc:description/>
  <dc:language>en-US</dc:language>
  <cp:lastModifiedBy>L-3799</cp:lastModifiedBy>
  <dcterms:modified xsi:type="dcterms:W3CDTF">2004-12-08T13:48:19Z</dcterms:modified>
  <cp:revision>45</cp:revision>
  <dc:subject/>
  <dc:title>The use of intravenous antibiotics in rural Australia</dc:title>
</cp:coreProperties>
</file>