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3B3-6214-4E5C-911E-7E74621A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8D5-20B1-4D8E-B706-CD9ED28B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154-F57F-4253-A5AB-16E25D24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4C4-A4DA-4227-BA0F-62AB2545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F80-ECBE-4FA2-8971-33EE7F8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DAA-FC4F-4DC4-9459-532F8E57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162-02AC-4B82-BB92-DFA1A405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690-8A7D-4389-8324-73B73EAD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79D-6315-4BBC-8EFF-A7874F29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B94-4D02-4FC5-A96E-82F35431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026-6E39-44B1-BC60-6BC6DF5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690-8F85-40C3-9EFA-05E2FD8A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FBED-08B4-4E80-B85A-4DC0CB3BD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6120" y="608040"/>
            <a:ext cx="6096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 FO THE UBN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600200"/>
            <a:ext cx="4952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. Definition of the basic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2440080"/>
            <a:ext cx="4876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. Determination of the relevant indicators for each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3352680"/>
            <a:ext cx="4876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 Standards for each indicator (threshol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960720"/>
            <a:ext cx="4876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. Verify whether or not the value  each indicator has in the unit is better than the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5105520"/>
            <a:ext cx="4876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. Adding up or averaging the different statuses that a unit can have in different indic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6120" y="608040"/>
            <a:ext cx="647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1066680"/>
            <a:ext cx="4952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bsolute and relative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523880"/>
            <a:ext cx="3962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he use of the fuzzy set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19810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he thresholds in the Latin American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24382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 of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8954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indicators refer to the house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295800"/>
            <a:ext cx="4876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ors may not be appropriate for simultaneously all memb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39625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graphic disaggr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44197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ors and thresholds may vary among 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48769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tin American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571500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bsolute vs. relative views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525780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ing the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62071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tin American experience of the eigh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6120" y="228600"/>
            <a:ext cx="647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gregation of individual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685800"/>
            <a:ext cx="4952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(the?) main problem facing the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066680"/>
            <a:ext cx="3962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ne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447920"/>
            <a:ext cx="40384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deprivation ind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182880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2209680"/>
            <a:ext cx="4876920" cy="58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shold of the aggre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= (z*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/ z*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7781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200400"/>
            <a:ext cx="487692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verage deprivation indices: a person attaches more relevance to deprivation when a high proportion of units complies the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88620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expendi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2670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ost usual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029200"/>
            <a:ext cx="4876560" cy="43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ing: consider the number of standards the household does not m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4648320"/>
            <a:ext cx="4876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y - not comply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562720"/>
            <a:ext cx="4876560" cy="74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indic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for measuring poverty int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6120" y="608040"/>
            <a:ext cx="647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THE BASIC NEEDS AND THE INDI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219320"/>
            <a:ext cx="4952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eeds and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76520"/>
            <a:ext cx="3962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ck fo conceptual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22096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hich are the dimensions regarded as ba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26668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1240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ors should measur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3581280"/>
            <a:ext cx="4876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embers of the household should be assessed in the sam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434340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ources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8769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tin American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3520" y="1206360"/>
          <a:ext cx="10591560" cy="49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06360"/>
                    <a:ext cx="1059156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46120" y="608040"/>
            <a:ext cx="647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THE BASIC NEEDS AND THE INDI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219320"/>
            <a:ext cx="4952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eeds and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1676520"/>
            <a:ext cx="3962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ck fo conceptual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2096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hich are the dimensions regarded as ba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6668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1240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ors should measur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3581280"/>
            <a:ext cx="4876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embers of the household should be assessed in the sam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34340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ources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48769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tin American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53341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come generating capacity indic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62120" y="635040"/>
          <a:ext cx="96771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35040"/>
                    <a:ext cx="96771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6120" y="608040"/>
            <a:ext cx="647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THE BASIC NEEDS AND THE INDI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219320"/>
            <a:ext cx="4952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eeds and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1676520"/>
            <a:ext cx="3962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ck fo conceptual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2096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hich are the dimensions regarded as ba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26668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31240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ors should measur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581280"/>
            <a:ext cx="4876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embers of the household should be assessed in the sam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434340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ources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tin American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33412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come generating capacity indic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590220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bined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280" y="1727280"/>
          <a:ext cx="11811240" cy="34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27280"/>
                    <a:ext cx="1181124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6120" y="608040"/>
            <a:ext cx="647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1219320"/>
            <a:ext cx="4952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bsolute and relative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1676520"/>
            <a:ext cx="3962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he use of the fuzzy set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209680"/>
            <a:ext cx="4876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he thresholds in the Latin American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681200" y="41400"/>
          <a:ext cx="5780160" cy="67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41400"/>
                    <a:ext cx="5780160" cy="67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5:19:47Z</dcterms:created>
  <dc:creator>Señores Usuarios</dc:creator>
  <dc:description/>
  <dc:language>en-US</dc:language>
  <cp:lastModifiedBy>Señores Usuarios</cp:lastModifiedBy>
  <dcterms:modified xsi:type="dcterms:W3CDTF">2004-12-05T17:27:58Z</dcterms:modified>
  <cp:revision>11</cp:revision>
  <dc:subject/>
  <dc:title>Sin título de diapositiva</dc:title>
</cp:coreProperties>
</file>