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F4B-79B7-41D6-9393-563C11CF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9E9-9FF8-4160-872E-9E9D4660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7EF-047A-4524-943E-A64A5B7F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890-32C3-4672-B062-726E18F3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F87-1E9B-46B8-AE4D-521E62C0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F12-2B6E-4B6E-A3CD-19F33425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AF0A-DA95-4FB0-95FF-8CC8669C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A8D-3B2B-49CA-908D-120976CF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898-774C-46F4-9DAF-D3866887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D6F-95BC-4B35-AAA9-17E6AD67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5B4-6738-48FB-9228-8CCA0313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83E-6527-4375-AE34-3C81E411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7CCF-95FF-48AB-A7D8-84C1D7D9DE5A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63560" y="525600"/>
            <a:ext cx="35197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venth Meeting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11430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es-ES" sz="2800" spc="-1" strike="noStrike">
                <a:solidFill>
                  <a:srgbClr val="000066"/>
                </a:solidFill>
                <a:latin typeface="Tahoma"/>
              </a:rPr>
              <a:t>EXPERT GROUP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Tahoma"/>
              </a:rPr>
              <a:t>POVERTY STATISTIC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22096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(RIO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Rio de Janeiro, Brazil,     6-8 Dec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14120" y="3657600"/>
            <a:ext cx="4839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Informa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Fernando Med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ECL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ensus of population and house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360" y="2639880"/>
            <a:ext cx="8458560" cy="31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Geographic dis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Limitations in definitions and concep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income, employment,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1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Household Surv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2320" y="2166840"/>
            <a:ext cx="46990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Multi 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Employment and labor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Income and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Living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Demography and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Dis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Tim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Child 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2209680"/>
            <a:ext cx="533160" cy="3733920"/>
          </a:xfrm>
          <a:custGeom>
            <a:avLst/>
            <a:gdLst>
              <a:gd name="textAreaLeft" fmla="*/ 0 w 533160"/>
              <a:gd name="textAreaRight" fmla="*/ 192600 w 53316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3520" y="3691080"/>
            <a:ext cx="30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Integrat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63240" y="239544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Most freq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Problems and 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080" y="2092320"/>
            <a:ext cx="8626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Insufficient geographic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Income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Insufficient dissaggregation: incom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Undefined periodicity (income &amp; expenditure, living cond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hanges in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ample size limitations for special groups: childr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indigenous people, w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imitations in statistical precision for som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Information needs for poverty measu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080" y="2251080"/>
            <a:ext cx="855000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Basic Needs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: Population and househols censu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households surveys: multi purpose, incom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expenditure, living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Poverty lines (absolute and relative)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: multi purpo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income and expenditure, living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Integrated Method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: multi purpose, incom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expenditure, living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4800" y="2057400"/>
            <a:ext cx="573840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Financi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Technical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Information analysis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Opport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Access to databases: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Panel household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209680"/>
            <a:ext cx="86104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ahoma"/>
              </a:rPr>
              <a:t>Information for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ahoma"/>
              </a:rPr>
              <a:t>Measurement of well-be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600" y="1905120"/>
            <a:ext cx="876780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Units of observation an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The well-being ind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The income definition for poverty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The infomation sources for well-being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Information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Observation and analysis un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6880" y="2293920"/>
            <a:ext cx="365040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Consumer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Househo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he well-being indic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9320" y="1989000"/>
            <a:ext cx="5197320" cy="47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Expendi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Con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Syntetic 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Living Standar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he income concept for  well-be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819520"/>
            <a:ext cx="8763120" cy="26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Permanen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Curren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The Canberra Group income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Levels of information n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8000" y="2286000"/>
            <a:ext cx="6598080" cy="26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National and subnationa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Regiona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International compari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Information sources for well-being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040" y="2166840"/>
            <a:ext cx="847404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ahoma"/>
              </a:rPr>
              <a:t>Sectorial Informa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Health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: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mortality, nutrition, life expectancy,   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anthropometric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Education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: education level, illite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Housing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: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clean water, electricity, drenage, sanitation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Geographic disaggregation, special groups and gende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Problems and 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040" y="2174760"/>
            <a:ext cx="877896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Tahoma"/>
              </a:rPr>
              <a:t>The quality of the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Tahoma"/>
              </a:rPr>
              <a:t>The geographic coverage: national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s-ES" sz="2800" spc="-1" strike="noStrike">
                <a:solidFill>
                  <a:srgbClr val="0000ff"/>
                </a:solidFill>
                <a:latin typeface="Tahoma"/>
              </a:rPr>
              <a:t>region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Tahoma"/>
              </a:rPr>
              <a:t>Financi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21:51:03Z</dcterms:created>
  <dc:creator>Fernando Medina</dc:creator>
  <dc:description/>
  <dc:language>en-US</dc:language>
  <cp:lastModifiedBy>X.M.</cp:lastModifiedBy>
  <dcterms:modified xsi:type="dcterms:W3CDTF">2004-12-10T17:58:44Z</dcterms:modified>
  <cp:revision>68</cp:revision>
  <dc:subject/>
  <dc:title>Grupo de Río</dc:title>
</cp:coreProperties>
</file>