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F5E-46D2-4AC4-8214-30DDA049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27C-43D0-4460-AF18-935B892C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D7B-5960-450C-9BC4-5C015C18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192-D828-419B-839A-1B4DE718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F97-C60F-4B15-9565-31EA8E7B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206-DE4E-4922-B05C-9F338D47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4E8-B865-45E1-B2B6-68C2A50B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194-2DAF-4F49-9DAA-62F5D33A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34C-D836-458C-A899-56621672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9FA-D2C5-4EC6-A814-0945BBB4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C64-28B0-43C9-BAA8-3D2A0032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3018-0C9D-4CE2-A0EB-AE4F1D93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444B-3AC1-4878-AC88-2F6BA7754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uarezru@paho.or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aho.org/English/DPM/SHD/HP/haplwrk-docpres.htm" TargetMode="External"/><Relationship Id="rId2" Type="http://schemas.openxmlformats.org/officeDocument/2006/relationships/hyperlink" Target="http://www.paho.org/Spanish/DPM/SHD/HP/hapl04_nutpob_esp_docrelac.htm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990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th Poverty</a:t>
            </a:r>
            <a:br>
              <a:rPr sz="4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ember 07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4760" y="3886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ben M. Sua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 American Health Organization PAHO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ld Health Organization W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arezru@paho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3228840" cy="18097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941360" y="424440"/>
            <a:ext cx="3522600" cy="1468080"/>
            <a:chOff x="4941360" y="424440"/>
            <a:chExt cx="3522600" cy="146808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4941360" y="424440"/>
              <a:ext cx="3522600" cy="146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371600" y="1600200"/>
          <a:ext cx="6858000" cy="43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85800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609480" y="380880"/>
            <a:ext cx="7925040" cy="762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lth Adjusted Poverty Lines: HAP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9480" y="380880"/>
            <a:ext cx="7925040" cy="762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lth Adjusted Poverty Lines: HAP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88620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racteristic Adjusted Poverty Lines: CAPLI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aracteristics/Needs: Adjusting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1828800"/>
            <a:ext cx="304812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08080"/>
                </a:solidFill>
                <a:uFillTx/>
                <a:latin typeface="Times New Roman"/>
              </a:rPr>
              <a:t>Resources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Income and/or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Characteristics/Nee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c80"/>
                </a:solidFill>
                <a:latin typeface="Times New Roman"/>
              </a:rPr>
              <a:t>Consumption (Nutrition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c80"/>
                </a:solidFill>
                <a:latin typeface="Times New Roman"/>
              </a:rPr>
              <a:t>Ho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c80"/>
                </a:solidFill>
                <a:latin typeface="Times New Roman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c80"/>
                </a:solidFill>
                <a:latin typeface="Times New Roman"/>
              </a:rPr>
              <a:t>Access toPublic Services/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c80"/>
                </a:solidFill>
                <a:latin typeface="Times New Roman"/>
              </a:rPr>
              <a:t>Other Ass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4495680" cy="4267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racteristic Adjusted Poverty Lines: CAPLIN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Health Adjusted Poverty Lines HAPL): Adjusting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1828800"/>
            <a:ext cx="304812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66"/>
                </a:solidFill>
                <a:uFillTx/>
                <a:latin typeface="Times New Roman"/>
              </a:rPr>
              <a:t>Resources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Income and/or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08080"/>
                </a:solidFill>
                <a:uFillTx/>
                <a:latin typeface="Times New Roman"/>
              </a:rPr>
              <a:t>Characteristics/Nee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Consumption (Nutrition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Ho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ccess toPublic Services/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Other Asse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5105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racteristic Adjusted Poverty Lines: CAPLIN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n Anthropometric Failures and Poverty: Malnutrition &amp;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Obe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2666880"/>
            <a:ext cx="8001000" cy="370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ealth Adjusted Poverty Lines -HA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paho.org/English/DPM/SHD/HP/haplwrk-docpres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trition, Poverty and Human Develop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paho.org/Spanish/DPM/SHD/HP/hapl04_nutpob_esp_docrelac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alth Adjusted Poverty Lines: HAP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6477120"/>
            <a:ext cx="2667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arezru@paho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533520"/>
            <a:ext cx="7772400" cy="685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Adjusted Poverty Lines: HA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5240" y="1295280"/>
            <a:ext cx="4133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Adjusted Poverty Lines: HAPL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define and estimate health care needed of individuals or famil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treat the household expenditures in health care services (MOOPExp) in the Measurements of poverty and inequal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he costs/benefits of having coverage of health insurance should be considered in the measurement of poverty &amp; inequaliti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mportant health related catastrophic expenditures are in explaining the 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533520"/>
            <a:ext cx="7848720" cy="990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Adjusted Poverty Lines: HAPL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487692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racteristic Adjusted Poverty Lines: CAPLIN (Health Adjusted Poverty Lines HAPL):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172200" cy="495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racteristic Adjusted Poverty Lines: CAPLI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Health Adjusted Poverty Lines HAPL):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217520" y="1981080"/>
          <a:ext cx="6707160" cy="426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1981080"/>
                    <a:ext cx="6707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alth Adjusted Poverty Lines: HAP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04920" y="1981080"/>
            <a:ext cx="673416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alth Adjusted Poverty Lines: HAP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14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racteristic Adjusted Poverty Lines: CAPLIN (HAPL) -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143000" y="2471760"/>
          <a:ext cx="6378480" cy="36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71760"/>
                    <a:ext cx="6378480" cy="36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752480" y="1981080"/>
            <a:ext cx="5867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% of people below minimum incom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03:25:22Z</dcterms:created>
  <dc:creator>Ruben M.  Suarez-Berenguela</dc:creator>
  <dc:description/>
  <dc:language>en-US</dc:language>
  <cp:lastModifiedBy>X.M.</cp:lastModifiedBy>
  <dcterms:modified xsi:type="dcterms:W3CDTF">2005-01-10T18:17:24Z</dcterms:modified>
  <cp:revision>27</cp:revision>
  <dc:subject/>
  <dc:title>No Slide Title</dc:title>
</cp:coreProperties>
</file>