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89B-0300-43C1-B624-75EA86EB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3D5-4DA7-48AF-9A9F-EB6607B3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DED-2A2E-4A24-8ADC-66E04105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10C-E6F9-4380-ACE7-958A3D49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880-77D0-4B96-9AFC-E73AE68D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1CA-7FC0-455B-A399-25255335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E11D-4792-4287-94F6-EE43E830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7FD-34C9-46E8-867E-23824C48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C78-6216-491C-AC3B-C5B31B19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8D9-19B6-4E62-A127-48F53338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C99-69FE-4793-8AA5-7B50E85F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44E-809C-4C76-8569-0702F7F5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7979-4D83-4C76-B9CF-2F855877EE51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4640" y="3962520"/>
            <a:ext cx="56106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Inequality and depr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Fernando Med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ECL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51040" y="42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16200" y="533520"/>
            <a:ext cx="35197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venth Meeting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51040" y="11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14300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es-ES" sz="2800" spc="-1" strike="noStrike">
                <a:solidFill>
                  <a:srgbClr val="000066"/>
                </a:solidFill>
                <a:latin typeface="Tahoma"/>
              </a:rPr>
              <a:t>EXPERT GROUP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Tahoma"/>
              </a:rPr>
              <a:t>POVERTY STATISTIC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64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2096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(RIO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Rio de Janeiro, Brazil,     6-8 Dec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2133720"/>
            <a:ext cx="40384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5040" y="1184400"/>
            <a:ext cx="855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The agreed definition of absolute poverty is that it is a 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condition characterised by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severe deprivation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of bas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human need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The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two concepts are tightly linked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but there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general agreement that the concept of deprivation co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various conditions, while the concept of poverty refer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the lack highly lik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Deprivations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are highly likely to have serious adve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consequences for the health, well-being and 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of the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71600"/>
            <a:ext cx="855000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The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global consensus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about the MDG’s is a new poin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departure for the development in the intern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The millennium development goals are worried abou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national indicators. However,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don’t take into accoun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inequality inside the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The national indicators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don’t  show us the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between the different groups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The international attention about equity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increa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ahoma"/>
              </a:rPr>
              <a:t>Methods an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8474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20 health indicators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were used in the analysis re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with the MD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The nature of the chosen health indicators var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outcomes, access and knowledge of heal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The equity analysis requires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stratifying a population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i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subgroups that have different levels of underlying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advantage: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income and wealth quintiles based u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the assets of the family. Urban-rural, gend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ethnicity, occupatio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The data are compiled from DHS: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Cambodia, Domin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  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Republic, Ethiopia, Ghana, Kenya and Tajikis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ahoma"/>
              </a:rPr>
              <a:t>Methods and data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2174760"/>
            <a:ext cx="8550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The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wealth poverty line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was created using the exi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wealth ind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Using data from the World Development Indicators,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percentage of the population who lives below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poverty line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wa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80316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The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multiple dimensions of inequality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, mo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beyond the overly simplistic poor-versus-rich dichoto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The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inequities in health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by showing the compl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reality in different country contex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The poor conditions implies to know the all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determin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of the poor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: health, education,nutritio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The health studies have shown the extent to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public expenditure on health tends 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disproportionately favor to better-off group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Tahoma"/>
              </a:rPr>
              <a:t>society</a:t>
            </a:r>
            <a:r>
              <a:rPr b="0" lang="es-ES" sz="2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040" y="2251080"/>
            <a:ext cx="855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targets and indicators which buttress the MDG’s sh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e stated in equity-sensitive terms, prioritizing amongs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disadvantaged groups by country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 terms of designing national health policies, these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nfirm that there are many vulnerable groups (not jus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oor) and their different forms of vulnerability inte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21:50:09Z</dcterms:created>
  <dc:creator>Fernando Medina</dc:creator>
  <dc:description/>
  <dc:language>en-US</dc:language>
  <cp:lastModifiedBy>X.M.</cp:lastModifiedBy>
  <dcterms:modified xsi:type="dcterms:W3CDTF">2004-12-10T19:32:47Z</dcterms:modified>
  <cp:revision>35</cp:revision>
  <dc:subject/>
  <dc:title>PowerPoint Presentation</dc:title>
</cp:coreProperties>
</file>